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3E4-7007-4071-ADA5-61689178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4B3-A8DA-40AE-9BEF-D5B5E8C8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17B-1F9B-4D71-8061-D8D91538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FE6-FA90-41E5-9B97-DC18AFFE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06E2-C686-4AEE-B045-B90743B8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D54D-CC91-454C-A79B-62364A8E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888C-6C41-4AA8-84CD-25194A68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0C22-E9F3-402A-B824-C7D4F711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3D3C-21E5-4E1C-8212-3F8D2766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8B6A-E05D-4B35-A2BD-B2CA12E8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9C39-7275-4E9B-9507-70D010F3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245-B9BD-4741-B02A-42551311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110D-457C-48D6-AF2D-6E4C32EB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531E-A060-4B16-BC86-B0195678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13C3-647D-450B-BF12-00A1212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9A49-FA22-4C01-87E5-D735A95A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796B-DA6D-47F1-85E2-E6F6DB5E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18359-020C-4C35-895A-9B9664AD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08B73-7D5F-450E-900D-1EA272F4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9B731-0EBD-48D6-B4EA-7FD6C625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278EB-45D1-455B-A831-941ED42C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3F0A9-FB24-4221-A21F-0B1622AD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574-2504-4C9C-AE06-391300EC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087D9-AEC1-4228-823E-25501558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7B61D-02AA-423D-A6F0-3594C583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20103-40A1-4886-A313-09693BB7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8B7CA-EE2F-428B-9941-A4A9B4A5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6B406-6D00-4123-8FAB-8F4A706D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4FD62-D74D-40C3-B8BD-A3DD449D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A155D-3887-440E-B4A5-5B30DECD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0D36-6510-4FF5-A1C5-C44E6BAC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71E00-5414-4019-B416-F8276345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1ACE-D21E-4A96-9F6C-8AE7D959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D4E-E585-49B9-885E-312729AC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DD84F-BA7D-41CC-9735-8E58B3A3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B07B-8524-419A-92F2-FD078183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D964-5294-418D-A64E-ABC21126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6665F-6076-4434-AA0E-58D4ED97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852B6-5B2D-441A-A0CA-925C9548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C6FE-8D7F-4E48-9B51-61F00504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68068-482D-47E2-BE6B-6785C172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BF456-EA09-44B0-B9D7-F65084D2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B04EE-08B4-461D-8752-2D42975F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E51-980A-4064-8C5D-5605F101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A41-430F-485C-85A6-F634E576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663-FC07-4723-9B00-638168F8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9AE-6B13-483C-8093-D47F07B0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C23-5822-4306-96F9-59BD4795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4462-E5CF-4D7C-B28B-9439A0C61E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62A5-7B5F-4892-906E-B3559D4D53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E104-9B73-4F45-BF9F-1ED306EA96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4636-3AB8-4976-87BB-2648426973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hongkonghustle.com/?pagename=album&amp;?pp_album=main&amp;pp_cat=default&amp;pp_image=Michael_Jordan_legend_of_23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e chateau de Michael Jorda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 Jalani Bellofatto Debros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732800" y="4876920"/>
            <a:ext cx="1411200" cy="1981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981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934320" y="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0" y="5103720"/>
            <a:ext cx="26668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ordan’s golf chatea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873680" y="1599840"/>
            <a:ext cx="3813120" cy="4530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Michael Jordans House"/>
          <p:cNvPicPr/>
          <p:nvPr/>
        </p:nvPicPr>
        <p:blipFill>
          <a:blip r:embed="rId2"/>
          <a:stretch/>
        </p:blipFill>
        <p:spPr>
          <a:xfrm>
            <a:off x="4648320" y="1676520"/>
            <a:ext cx="41148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poste de garde chez Michael Jord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ordan’s le chateau a onze chambres, et poste de garde et centre de media, et une cour de basket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876560" y="1599840"/>
            <a:ext cx="3809880" cy="4530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 salon de Michael Jord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876560" y="1599840"/>
            <a:ext cx="3809880" cy="4530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Did your husband / boyfriend help with the interior design of your home? bedroom furniture"/>
          <p:cNvPicPr/>
          <p:nvPr/>
        </p:nvPicPr>
        <p:blipFill>
          <a:blip r:embed="rId2"/>
          <a:stretch/>
        </p:blipFill>
        <p:spPr>
          <a:xfrm>
            <a:off x="4343400" y="2209680"/>
            <a:ext cx="42386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e salle a manger de Michael Jord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200400"/>
            <a:ext cx="41148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 salon de Michael Jord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876560" y="159984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876560" y="394128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salle de chaussures de Michael Jord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876560" y="159984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876560" y="394128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Michael Jordan legend of 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1523880"/>
            <a:ext cx="3267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8:05:51Z</dcterms:created>
  <dc:creator>edill</dc:creator>
  <dc:description/>
  <dc:language>en-US</dc:language>
  <cp:lastModifiedBy>edill</cp:lastModifiedBy>
  <dcterms:modified xsi:type="dcterms:W3CDTF">2011-11-14T20:18:13Z</dcterms:modified>
  <cp:revision>4</cp:revision>
  <dc:subject/>
  <dc:title>Slide 1</dc:title>
</cp:coreProperties>
</file>